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C5E9-E23A-4EF4-AA82-FA82BFD5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DE39-FE76-4E02-A433-81116D23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AFB4-04C8-461C-9658-07B7691D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0E18-709C-4605-8064-1F39C2F7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62B9-0736-4F57-A2AC-9DF7D107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C4DE-A336-4CE2-837C-47F5C9F3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B3CD-538C-4A62-B261-59B7B653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86D8-919B-491C-B29C-7D10444A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0763-8C58-481D-B367-7F5865A9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DAEE-5EEA-4333-AE80-074DF9E4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BF0D-D536-4EFF-90F1-2FDFE3A1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27C9-F468-4BFD-9586-FAEBB12A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A10F-23C0-4388-A77D-D1A95311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D551-204D-424E-9932-3E8DF40F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9FFB-5EE8-48C5-81E3-1A782367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73EE-5668-4371-94A1-E8842CE4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9A42-0B43-4861-95EC-52CA962D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9CC6-B281-4C5F-88E1-B1C6B0E2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1DD8-52CA-4FB8-AD7C-AC009F82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068-95C9-4828-8D7F-EC9A54D5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AEB8-F1E4-4863-9071-8449C956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E105-3336-43AF-AA14-E901423E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644F-081A-4B08-A8A9-2DA558A0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7B7D-3CC4-42C9-BD61-FDDC80E0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81C5-19A8-48EE-B6B3-AE104914ACA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220E-A2C9-40C0-B86F-17ECED9957D1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单圆角矩形 6"/>
          <p:cNvSpPr/>
          <p:nvPr/>
        </p:nvSpPr>
        <p:spPr>
          <a:xfrm>
            <a:off x="357120" y="566640"/>
            <a:ext cx="4032360" cy="647640"/>
          </a:xfrm>
          <a:custGeom>
            <a:avLst/>
            <a:gdLst/>
            <a:ahLst/>
            <a:rect l="l" t="t" r="r" b="b"/>
            <a:pathLst>
              <a:path w="4032250" h="647700">
                <a:moveTo>
                  <a:pt x="107952" y="0"/>
                </a:moveTo>
                <a:lnTo>
                  <a:pt x="3924298" y="0"/>
                </a:lnTo>
                <a:lnTo>
                  <a:pt x="4032250" y="107952"/>
                </a:lnTo>
                <a:lnTo>
                  <a:pt x="4032250" y="647700"/>
                </a:lnTo>
                <a:lnTo>
                  <a:pt x="0" y="647700"/>
                </a:lnTo>
                <a:lnTo>
                  <a:pt x="0" y="107952"/>
                </a:lnTo>
                <a:cubicBezTo>
                  <a:pt x="0" y="48332"/>
                  <a:pt x="48332" y="0"/>
                  <a:pt x="107952" y="0"/>
                </a:cubicBezTo>
                <a:close/>
              </a:path>
            </a:pathLst>
          </a:cu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571760" y="178596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2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正比例（一）  练一练 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单圆角矩形 6"/>
          <p:cNvSpPr/>
          <p:nvPr/>
        </p:nvSpPr>
        <p:spPr>
          <a:xfrm>
            <a:off x="357120" y="566640"/>
            <a:ext cx="4032360" cy="647640"/>
          </a:xfrm>
          <a:custGeom>
            <a:avLst/>
            <a:gdLst/>
            <a:ahLst/>
            <a:rect l="l" t="t" r="r" b="b"/>
            <a:pathLst>
              <a:path w="4032250" h="647700">
                <a:moveTo>
                  <a:pt x="107952" y="0"/>
                </a:moveTo>
                <a:lnTo>
                  <a:pt x="3924298" y="0"/>
                </a:lnTo>
                <a:lnTo>
                  <a:pt x="4032250" y="107952"/>
                </a:lnTo>
                <a:lnTo>
                  <a:pt x="4032250" y="647700"/>
                </a:lnTo>
                <a:lnTo>
                  <a:pt x="0" y="647700"/>
                </a:lnTo>
                <a:lnTo>
                  <a:pt x="0" y="107952"/>
                </a:lnTo>
                <a:cubicBezTo>
                  <a:pt x="0" y="48332"/>
                  <a:pt x="48332" y="0"/>
                  <a:pt x="107952" y="0"/>
                </a:cubicBezTo>
                <a:close/>
              </a:path>
            </a:pathLst>
          </a:cu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1571760" y="178596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2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正比例（一）  练一练 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500040" y="9288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购买每种饮料的数量相同，单价和总价的关系如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714240" y="2000160"/>
          <a:ext cx="7643880" cy="1736640"/>
        </p:xfrm>
        <a:graphic>
          <a:graphicData uri="http://schemas.openxmlformats.org/drawingml/2006/table">
            <a:tbl>
              <a:tblPr/>
              <a:tblGrid>
                <a:gridCol w="1911600"/>
                <a:gridCol w="1909800"/>
                <a:gridCol w="1911240"/>
                <a:gridCol w="191124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饮料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纯净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冰绿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橙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单价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元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瓶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总价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537" name="Rectangle 2"/>
          <p:cNvSpPr/>
          <p:nvPr/>
        </p:nvSpPr>
        <p:spPr>
          <a:xfrm>
            <a:off x="571680" y="51436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下面是纯净水、冰绿茶的销售图，看图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8" name="Object 10"/>
          <p:cNvGraphicFramePr/>
          <p:nvPr/>
        </p:nvGraphicFramePr>
        <p:xfrm>
          <a:off x="3000240" y="4000680"/>
          <a:ext cx="321336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0240" y="4000680"/>
                    <a:ext cx="32133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2"/>
          <p:cNvSpPr/>
          <p:nvPr/>
        </p:nvSpPr>
        <p:spPr>
          <a:xfrm>
            <a:off x="366840" y="4714920"/>
            <a:ext cx="8777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瓶的总价是（   ）元，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瓶的总价是（   ）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瓶的总价是（   ）元，  （   ）瓶的总价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）瓶的总价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214200" y="10000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1"/>
          <p:cNvSpPr/>
          <p:nvPr/>
        </p:nvSpPr>
        <p:spPr>
          <a:xfrm>
            <a:off x="2714760" y="469116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1071720" y="942840"/>
            <a:ext cx="7338960" cy="384336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21"/>
          <p:cNvSpPr/>
          <p:nvPr/>
        </p:nvSpPr>
        <p:spPr>
          <a:xfrm>
            <a:off x="2928960" y="511956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1"/>
          <p:cNvSpPr/>
          <p:nvPr/>
        </p:nvSpPr>
        <p:spPr>
          <a:xfrm>
            <a:off x="785880" y="55720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1"/>
          <p:cNvSpPr/>
          <p:nvPr/>
        </p:nvSpPr>
        <p:spPr>
          <a:xfrm>
            <a:off x="7358040" y="471492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1"/>
          <p:cNvSpPr/>
          <p:nvPr/>
        </p:nvSpPr>
        <p:spPr>
          <a:xfrm>
            <a:off x="5214960" y="51436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1928880" y="1071720"/>
            <a:ext cx="5743440" cy="4400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2"/>
          <p:cNvSpPr/>
          <p:nvPr/>
        </p:nvSpPr>
        <p:spPr>
          <a:xfrm>
            <a:off x="500040" y="526104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瓶的总价是（  ）元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瓶的总价是（  ）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）瓶的总价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，（ ）瓶的总价是（ ）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2"/>
          <p:cNvSpPr/>
          <p:nvPr/>
        </p:nvSpPr>
        <p:spPr>
          <a:xfrm>
            <a:off x="642960" y="100008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1"/>
          <p:cNvSpPr/>
          <p:nvPr/>
        </p:nvSpPr>
        <p:spPr>
          <a:xfrm>
            <a:off x="2786040" y="52624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1"/>
          <p:cNvSpPr/>
          <p:nvPr/>
        </p:nvSpPr>
        <p:spPr>
          <a:xfrm>
            <a:off x="6715080" y="52624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1"/>
          <p:cNvSpPr/>
          <p:nvPr/>
        </p:nvSpPr>
        <p:spPr>
          <a:xfrm>
            <a:off x="857160" y="569124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1"/>
          <p:cNvSpPr/>
          <p:nvPr/>
        </p:nvSpPr>
        <p:spPr>
          <a:xfrm>
            <a:off x="4929120" y="569124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21"/>
          <p:cNvSpPr/>
          <p:nvPr/>
        </p:nvSpPr>
        <p:spPr>
          <a:xfrm>
            <a:off x="7500960" y="569124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19"/>
          <p:cNvSpPr/>
          <p:nvPr/>
        </p:nvSpPr>
        <p:spPr>
          <a:xfrm flipV="1">
            <a:off x="2428200" y="1857240"/>
            <a:ext cx="3071880" cy="31435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10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785880" y="1428840"/>
            <a:ext cx="3543120" cy="485604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2"/>
          <p:cNvSpPr/>
          <p:nvPr/>
        </p:nvSpPr>
        <p:spPr>
          <a:xfrm>
            <a:off x="3357720" y="1330200"/>
            <a:ext cx="542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直径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的圆周长约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，计算结果为（     ）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357120" y="85716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观察图形，先估计圆周长，再计算。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π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取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1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7215120" y="1714680"/>
            <a:ext cx="121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.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3357720" y="2616120"/>
            <a:ext cx="542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直径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的圆周长约为（  ）厘米，计算结果为（    ）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2"/>
          <p:cNvSpPr/>
          <p:nvPr/>
        </p:nvSpPr>
        <p:spPr>
          <a:xfrm>
            <a:off x="3357720" y="3973680"/>
            <a:ext cx="542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直径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的圆周长约为（  ）厘米，计算结果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）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4071960" y="300024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4071960" y="347508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1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4071960" y="435780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3714840" y="4786200"/>
            <a:ext cx="121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3.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714240" y="1143000"/>
            <a:ext cx="785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已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那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（  ）：（  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1"/>
          <p:cNvSpPr/>
          <p:nvPr/>
        </p:nvSpPr>
        <p:spPr>
          <a:xfrm>
            <a:off x="5429160" y="114300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     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Object 10"/>
          <p:cNvGraphicFramePr/>
          <p:nvPr/>
        </p:nvGraphicFramePr>
        <p:xfrm>
          <a:off x="1071720" y="1601640"/>
          <a:ext cx="1469880" cy="13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601640"/>
                    <a:ext cx="1469880" cy="13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Rectangle 21"/>
          <p:cNvSpPr/>
          <p:nvPr/>
        </p:nvSpPr>
        <p:spPr>
          <a:xfrm>
            <a:off x="1979640" y="1500120"/>
            <a:ext cx="8571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4:00:49Z</dcterms:created>
  <dc:creator/>
  <dc:description/>
  <dc:language>en-US</dc:language>
  <cp:lastModifiedBy/>
  <dcterms:modified xsi:type="dcterms:W3CDTF">2017-03-15T04:01:32Z</dcterms:modified>
  <cp:revision>1</cp:revision>
  <dc:subject/>
  <dc:title/>
</cp:coreProperties>
</file>